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52C3F-9468-41A0-A20E-A78FDAED5A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7EB24-D19C-48EB-ADCE-1AAB675D4B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F93C7-FE2E-4BAA-9240-D2318B8C4B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1109A-75EB-4864-B06E-A30030F8EB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8468C-0A29-4914-8C60-FEF00ABF61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19DE3-ADCD-4DE6-8031-15B5E92AEA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03BDC-9CF3-40A8-9BE0-DC818AC594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8AF10-2D7E-4B20-A1C5-FAAA1059A9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F71930-8670-4AAA-9704-45E976A9AB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649269-6051-4E9B-A560-34DD75D345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81427C-4CD7-4AAB-8A70-2FF775414F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29AC34-C92C-44CF-AFE6-C7BABAE2B3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FF4D3B-431D-46FB-8237-4408D187C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C85851-541C-48E7-957E-C86A62CEA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565D36-8226-48B4-BDCB-0E6FE9B04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463F0F-043D-42AF-9297-0DAE4C089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BE0A06-2153-4B2F-9C08-22BE086C4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533520" y="2286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3BB67D-658D-478A-813D-F9DF1997B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062A51-6C5A-4170-B3A4-8AD6CACCB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2763BD-D2F7-4BF8-B522-F484909B15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1B81B1-D965-4CA0-A3E6-7F14F916B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3D3ACE-8D7D-431E-A208-5D0E6708F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EC7DB6-F4F7-4B79-B1E5-FCF7B4159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245B37-B054-4421-9CA2-C7F04461D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A9EE02-9AB6-4A23-92F2-D91A314A1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AF00B5-12DB-4280-A33D-7DC80CBEB0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A24CF9-C006-4247-BD5E-27B821D665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70F319-9C6F-487C-AAA9-59671DBA93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33520" y="2286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131EB7-0D80-438A-BFB3-66AE7DA895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54F50F-C213-44C9-94AF-46DB3A309A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EE958E-B4B8-416D-A086-99807F1288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489554-C8D0-4E2F-AE6D-1724FF1C39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520" y="6172200"/>
            <a:ext cx="4953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sual A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E7F2E-116E-4DA1-9429-D292FF48B55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982800" indent="-196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375920" indent="-196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69040" indent="-196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982800" indent="-196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375920" indent="-196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69040" indent="-196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sual A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6706B-57B8-41A8-B5C9-9E41929D108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Espace réservé du pied de page 3"/>
          <p:cNvSpPr/>
          <p:nvPr/>
        </p:nvSpPr>
        <p:spPr>
          <a:xfrm>
            <a:off x="380880" y="6172200"/>
            <a:ext cx="495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sual A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00F56-5E4E-4F1D-BA39-1DEC4AD73FC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9520" y="1904760"/>
            <a:ext cx="4876920" cy="190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Verdana"/>
              </a:rPr>
              <a:t>Quality Manual Structure and Cont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5" name="Picture 11" descr="HHS-Logo-blue"/>
          <p:cNvPicPr/>
          <p:nvPr/>
        </p:nvPicPr>
        <p:blipFill>
          <a:blip r:embed="rId1"/>
          <a:stretch/>
        </p:blipFill>
        <p:spPr>
          <a:xfrm>
            <a:off x="41148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7" descr="2BSLATH"/>
          <p:cNvPicPr/>
          <p:nvPr/>
        </p:nvPicPr>
        <p:blipFill>
          <a:blip r:embed="rId2"/>
          <a:stretch/>
        </p:blipFill>
        <p:spPr>
          <a:xfrm>
            <a:off x="4876920" y="6172200"/>
            <a:ext cx="761760" cy="5493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6" descr="WHO-EN-C-H"/>
          <p:cNvPicPr/>
          <p:nvPr/>
        </p:nvPicPr>
        <p:blipFill>
          <a:blip r:embed="rId3"/>
          <a:stretch/>
        </p:blipFill>
        <p:spPr>
          <a:xfrm>
            <a:off x="5715000" y="6172200"/>
            <a:ext cx="1828800" cy="560520"/>
          </a:xfrm>
          <a:prstGeom prst="rect">
            <a:avLst/>
          </a:prstGeom>
          <a:ln w="0">
            <a:noFill/>
          </a:ln>
        </p:spPr>
      </p:pic>
      <p:grpSp>
        <p:nvGrpSpPr>
          <p:cNvPr id="118" name="Group 7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9" name="Rectangle 8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9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1" name="Group 10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22" name="Rectangle 11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Rectangle 12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Rectangle 13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Rectangle 14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Rectangle 15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16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Rectangle 17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Rectangle 18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Rectangle 19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Rectangle 20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Text Box 21"/>
          <p:cNvSpPr/>
          <p:nvPr/>
        </p:nvSpPr>
        <p:spPr>
          <a:xfrm>
            <a:off x="3581280" y="1828800"/>
            <a:ext cx="495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Verdana"/>
              </a:rPr>
              <a:t>Aides visuel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22" descr="CLSI_WHO_Blue_CMYK1"/>
          <p:cNvPicPr/>
          <p:nvPr/>
        </p:nvPicPr>
        <p:blipFill>
          <a:blip r:embed="rId4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Espace réservé du pied de page 1"/>
          <p:cNvSpPr/>
          <p:nvPr/>
        </p:nvSpPr>
        <p:spPr>
          <a:xfrm>
            <a:off x="380880" y="6172200"/>
            <a:ext cx="495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ides visuel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4CE72-5228-4CE7-B48D-C9E48118DB1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2" descr="visual_sop"/>
          <p:cNvPicPr/>
          <p:nvPr/>
        </p:nvPicPr>
        <p:blipFill>
          <a:blip r:embed="rId1"/>
          <a:srcRect l="51824" t="0" r="0" b="0"/>
          <a:stretch/>
        </p:blipFill>
        <p:spPr>
          <a:xfrm>
            <a:off x="4724280" y="946080"/>
            <a:ext cx="4025880" cy="496584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4"/>
          <p:cNvSpPr/>
          <p:nvPr/>
        </p:nvSpPr>
        <p:spPr>
          <a:xfrm>
            <a:off x="533520" y="1549440"/>
            <a:ext cx="3886200" cy="3951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« Une image vaut 1000 mots »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Penser aux </a:t>
            </a:r>
            <a:r>
              <a:rPr b="0" lang="fr-FR" sz="2800" spc="-1" strike="noStrike">
                <a:solidFill>
                  <a:srgbClr val="9999ff"/>
                </a:solidFill>
                <a:latin typeface="Arial"/>
              </a:rPr>
              <a:t>aides visuelles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afin d’aider à renforcer la conformité aux nouvelles procéd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ZoneTexte 5"/>
          <p:cNvSpPr/>
          <p:nvPr/>
        </p:nvSpPr>
        <p:spPr>
          <a:xfrm>
            <a:off x="6781680" y="2133720"/>
            <a:ext cx="2362320" cy="8240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S’assurer que l’étiquet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est juste en dessous du capuch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ZoneTexte 6"/>
          <p:cNvSpPr/>
          <p:nvPr/>
        </p:nvSpPr>
        <p:spPr>
          <a:xfrm>
            <a:off x="6781680" y="2819520"/>
            <a:ext cx="2362320" cy="1006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Cette étiquette est presque droite, a un code bar propre et aucun surplus ne dépasse le tour du tub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ZoneTexte 7"/>
          <p:cNvSpPr/>
          <p:nvPr/>
        </p:nvSpPr>
        <p:spPr>
          <a:xfrm>
            <a:off x="6781680" y="4611600"/>
            <a:ext cx="2362320" cy="8240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Cette étiquette ne s’étend pas jusqu’à l’extrémité inférieur du tu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ZoneTexte 8"/>
          <p:cNvSpPr/>
          <p:nvPr/>
        </p:nvSpPr>
        <p:spPr>
          <a:xfrm>
            <a:off x="4952880" y="5667480"/>
            <a:ext cx="2362320" cy="307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Etiquette correc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68353-BEAD-4995-A97C-5E6D254E9DF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5" name="Picture 4" descr="specimen_visual_aid"/>
          <p:cNvPicPr/>
          <p:nvPr/>
        </p:nvPicPr>
        <p:blipFill>
          <a:blip r:embed="rId1"/>
          <a:stretch/>
        </p:blipFill>
        <p:spPr>
          <a:xfrm>
            <a:off x="203040" y="546120"/>
            <a:ext cx="8737920" cy="576576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5"/>
          <p:cNvSpPr/>
          <p:nvPr/>
        </p:nvSpPr>
        <p:spPr>
          <a:xfrm>
            <a:off x="0" y="716040"/>
            <a:ext cx="9144000" cy="42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Aide visuelle permettant de déterminer le volume suffisant de séru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6"/>
          <p:cNvSpPr/>
          <p:nvPr/>
        </p:nvSpPr>
        <p:spPr>
          <a:xfrm>
            <a:off x="3429000" y="1295280"/>
            <a:ext cx="5715000" cy="502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La mesure visuelle, afin de déterminer si le spécimen est au dessous de la limite de 2,5 c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Tenir le spécimen contre la carte visuelle de mes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Aligner le gel séparateur a la ligne du b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En utilisant la ligne du haut, déterminer s’il y a plus ou moins 2,5 c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Espace réservé du pied de page 1"/>
          <p:cNvSpPr/>
          <p:nvPr/>
        </p:nvSpPr>
        <p:spPr>
          <a:xfrm>
            <a:off x="380880" y="6172200"/>
            <a:ext cx="495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ides visuel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ZoneTexte 8"/>
          <p:cNvSpPr/>
          <p:nvPr/>
        </p:nvSpPr>
        <p:spPr>
          <a:xfrm>
            <a:off x="1981080" y="3581280"/>
            <a:ext cx="838440" cy="307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2,5 c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BE80F-2A83-4AC0-9E8C-82463EAD696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3" name="Picture 4" descr="sample_management_1"/>
          <p:cNvPicPr/>
          <p:nvPr/>
        </p:nvPicPr>
        <p:blipFill>
          <a:blip r:embed="rId1"/>
          <a:stretch/>
        </p:blipFill>
        <p:spPr>
          <a:xfrm>
            <a:off x="190440" y="635040"/>
            <a:ext cx="8763120" cy="558792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5"/>
          <p:cNvSpPr/>
          <p:nvPr/>
        </p:nvSpPr>
        <p:spPr>
          <a:xfrm>
            <a:off x="0" y="533520"/>
            <a:ext cx="91440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Aide visuelle déterminant l’acceptabilité du spéci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6"/>
          <p:cNvSpPr/>
          <p:nvPr/>
        </p:nvSpPr>
        <p:spPr>
          <a:xfrm>
            <a:off x="457200" y="1523880"/>
            <a:ext cx="3429000" cy="106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S’il y a 2,5 cm ou plus de sérum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7"/>
          <p:cNvSpPr/>
          <p:nvPr/>
        </p:nvSpPr>
        <p:spPr>
          <a:xfrm>
            <a:off x="4191120" y="1371600"/>
            <a:ext cx="4724280" cy="155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Emballer le spécimen et le transporter comme d’habitu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Espace réservé du pied de page 1"/>
          <p:cNvSpPr/>
          <p:nvPr/>
        </p:nvSpPr>
        <p:spPr>
          <a:xfrm>
            <a:off x="380880" y="6172200"/>
            <a:ext cx="495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ides visuel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ZoneTexte 9"/>
          <p:cNvSpPr/>
          <p:nvPr/>
        </p:nvSpPr>
        <p:spPr>
          <a:xfrm>
            <a:off x="3505320" y="3882960"/>
            <a:ext cx="838080" cy="307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2,5 c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3094E-2A3C-440E-ADD6-CDED3F51B19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2" name="Picture 4" descr="sample_management_acceptability_2"/>
          <p:cNvPicPr/>
          <p:nvPr/>
        </p:nvPicPr>
        <p:blipFill>
          <a:blip r:embed="rId1"/>
          <a:stretch/>
        </p:blipFill>
        <p:spPr>
          <a:xfrm>
            <a:off x="138240" y="550800"/>
            <a:ext cx="8866080" cy="575460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5"/>
          <p:cNvSpPr/>
          <p:nvPr/>
        </p:nvSpPr>
        <p:spPr>
          <a:xfrm>
            <a:off x="0" y="1447920"/>
            <a:ext cx="4038480" cy="106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Mais, s’il y a moins de 2,5 cm de sér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6"/>
          <p:cNvSpPr/>
          <p:nvPr/>
        </p:nvSpPr>
        <p:spPr>
          <a:xfrm>
            <a:off x="4038480" y="1219320"/>
            <a:ext cx="5105520" cy="20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Marquer le haut du tube avec un X et emballer le spécimen dans une boîte priorita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7"/>
          <p:cNvSpPr/>
          <p:nvPr/>
        </p:nvSpPr>
        <p:spPr>
          <a:xfrm>
            <a:off x="0" y="533520"/>
            <a:ext cx="91440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Aide visuelle déterminant l’acceptabilité du spéci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Espace réservé du pied de page 1"/>
          <p:cNvSpPr/>
          <p:nvPr/>
        </p:nvSpPr>
        <p:spPr>
          <a:xfrm>
            <a:off x="380880" y="6172200"/>
            <a:ext cx="495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des visuel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ZoneTexte 9"/>
          <p:cNvSpPr/>
          <p:nvPr/>
        </p:nvSpPr>
        <p:spPr>
          <a:xfrm>
            <a:off x="3124080" y="3882960"/>
            <a:ext cx="838440" cy="307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2,5 c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6FBAD-1D2B-48F0-99F3-97ADE56D957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2" descr="5_finger_prick_job_aid"/>
          <p:cNvPicPr/>
          <p:nvPr/>
        </p:nvPicPr>
        <p:blipFill>
          <a:blip r:embed="rId1"/>
          <a:stretch/>
        </p:blipFill>
        <p:spPr>
          <a:xfrm>
            <a:off x="1781280" y="0"/>
            <a:ext cx="523692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Espace réservé du pied de page 1"/>
          <p:cNvSpPr/>
          <p:nvPr/>
        </p:nvSpPr>
        <p:spPr>
          <a:xfrm>
            <a:off x="380880" y="6172200"/>
            <a:ext cx="495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ides visuel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B0384-7FB2-474C-9A90-4C7CFFC00A7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2" descr="5_venipuncture_cdc_who"/>
          <p:cNvPicPr/>
          <p:nvPr/>
        </p:nvPicPr>
        <p:blipFill>
          <a:blip r:embed="rId1"/>
          <a:stretch/>
        </p:blipFill>
        <p:spPr>
          <a:xfrm>
            <a:off x="1733400" y="0"/>
            <a:ext cx="5289840" cy="6858000"/>
          </a:xfrm>
          <a:prstGeom prst="rect">
            <a:avLst/>
          </a:prstGeom>
          <a:ln w="0">
            <a:noFill/>
          </a:ln>
        </p:spPr>
      </p:pic>
      <p:sp>
        <p:nvSpPr>
          <p:cNvPr id="173" name="Espace réservé du pied de page 1"/>
          <p:cNvSpPr/>
          <p:nvPr/>
        </p:nvSpPr>
        <p:spPr>
          <a:xfrm>
            <a:off x="380880" y="6172200"/>
            <a:ext cx="495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ides visuel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2T22:26:15Z</dcterms:created>
  <dc:creator>Robin Barteluk</dc:creator>
  <dc:description/>
  <dc:language>en-US</dc:language>
  <cp:lastModifiedBy>dolmazonv</cp:lastModifiedBy>
  <dcterms:modified xsi:type="dcterms:W3CDTF">2010-04-08T14:53:07Z</dcterms:modified>
  <cp:revision>9</cp:revision>
  <dc:subject/>
  <dc:title>Quality Manual Structure and Contents</dc:title>
</cp:coreProperties>
</file>